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19D-07B9-4513-A06A-03CBCE45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7F5-47DF-4506-8E30-4C47B75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085-17C2-447C-958E-0C9A62B4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69B-9351-4AA4-9ECA-0E7BBD36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05D-D068-4490-A007-D967C15D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1EE-2229-4420-B534-ACDB947B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7BB-4592-4BAD-B686-35706772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0F0-47BF-429B-BAAF-B03E2158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DD0-C2B3-45A3-A6A6-32DF760C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D1C-4FA2-4D3D-B061-1389B16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C57-4CAA-44BE-903F-39F57CF0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9D4-4C36-43A2-A04C-C81EF78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9397-22CD-4767-972D-ECB97E3D7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POWER &amp; ORGANIZATION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1905120"/>
            <a:ext cx="327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church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artn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0988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Supp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3809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380988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05720" y="3809880"/>
            <a:ext cx="1676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church Min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32004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012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06:05:38Z</dcterms:created>
  <dc:creator>Jones Lee</dc:creator>
  <dc:description/>
  <dc:language>en-US</dc:language>
  <cp:lastModifiedBy>Jones Lee</cp:lastModifiedBy>
  <dcterms:modified xsi:type="dcterms:W3CDTF">2004-05-25T07:04:09Z</dcterms:modified>
  <cp:revision>2</cp:revision>
  <dc:subject/>
  <dc:title>MANPOWER &amp; ORGANIZATION CHART</dc:title>
</cp:coreProperties>
</file>