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136-F772-4D4E-9EC0-90BA3D75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D60-F28C-44E1-A039-934C93BC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F90-E21C-4EBE-9BBE-6FB38D51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E36-64EA-42D7-A381-8F1FA24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C2C-AE46-4B19-91D6-7714F0D5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1B7-1962-403C-A165-A5AF3967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9A6-D94B-4668-B948-1086DEB8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DAE-610B-4978-ABF7-C98BA55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F9C-200F-49BB-94B9-E5493CEE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E2B-BB3F-4270-8A63-AE8AFF2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384-F8F3-44E3-95B3-4BE93C6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112-EF19-4D80-BE2D-720A47B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D97-669C-4B21-981E-64DEB182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380880"/>
            <a:ext cx="2514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21932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200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2860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28600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228600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84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ra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76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3200400"/>
            <a:ext cx="1295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638680"/>
            <a:ext cx="12956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mi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038480"/>
            <a:ext cx="12956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3200400"/>
            <a:ext cx="1295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03848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56386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48769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4876920"/>
            <a:ext cx="1295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320040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403848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876920"/>
            <a:ext cx="1295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81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819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8195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8195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2819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6:10:14Z</dcterms:created>
  <dc:creator>Jones Lee</dc:creator>
  <dc:description/>
  <dc:language>en-US</dc:language>
  <cp:lastModifiedBy>Jones Lee</cp:lastModifiedBy>
  <dcterms:modified xsi:type="dcterms:W3CDTF">2004-05-25T07:03:23Z</dcterms:modified>
  <cp:revision>2</cp:revision>
  <dc:subject/>
  <dc:title>Slide 1</dc:title>
</cp:coreProperties>
</file>